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gif" ContentType="image/gif"/>
  <Override PartName="/ppt/media/image11.wmf" ContentType="image/x-wmf"/>
  <Override PartName="/ppt/media/image1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ACE-4931-44A0-B273-75E595F5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1CD-2591-47CC-BC47-34348C05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E3E-A620-4C6E-928A-C643FE72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33E-6B66-4FD5-8458-B0E43433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731B-965E-43BC-83D4-7676469E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B971-6CE8-40AE-BFAB-37E16479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4D9A-5DA0-440F-A652-812B07AC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8B88-9C73-4C3D-8D52-CCE17E74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80EB-B5DA-49E1-8430-0516675C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5A5E-E947-460B-9912-60A89763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A992-6D74-44D0-A0AE-9E724C87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F2D-D981-4299-BAEA-98C6CA4F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3B62-C83F-445F-86C7-EBEB29F5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5BCD-C36E-4B03-A71A-F5CBB360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7456-BDD5-432A-9A76-2C49DB5B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F2B7-8E27-48BA-B29A-05F70F4B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35A0-7A6F-4688-B89B-839F42D0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481-C934-496A-8E9C-3336DA3A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55B-873E-42A2-8C79-D7D563AB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E925-CC2D-4E3C-8706-94754FE3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A4E5-DE1D-47A2-BE88-15CD8048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1B1-5747-4015-BC84-14B4671F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C81-E372-4733-A95C-29638B9A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586-FE5F-43A9-83BB-CD8E2D7A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B221-CFCC-45B3-A197-A7ECBDC7DAD4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08B0-E6B8-4C47-997B-1515A10EA60C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law is a bunch of rules recognised by society as bind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4857840" y="635796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5" name="Picture 2" descr="C:\Program Files\Microsoft Office\Media\CntCD1\Animated\j0189249.gif"/>
          <p:cNvPicPr/>
          <p:nvPr/>
        </p:nvPicPr>
        <p:blipFill>
          <a:blip r:embed="rId2"/>
          <a:stretch/>
        </p:blipFill>
        <p:spPr>
          <a:xfrm>
            <a:off x="4643280" y="3286080"/>
            <a:ext cx="25146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bill is a proposal  for a new law or to adjust a existing law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143680" y="63579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3" descr="C:\Program Files\Microsoft Office\Media\CntCD1\ClipArt2\j0229705.wmf"/>
          <p:cNvPicPr/>
          <p:nvPr/>
        </p:nvPicPr>
        <p:blipFill>
          <a:blip r:embed="rId2"/>
          <a:stretch/>
        </p:blipFill>
        <p:spPr>
          <a:xfrm>
            <a:off x="5286240" y="3000240"/>
            <a:ext cx="1818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Federal is having to do with parliament of Australia or the  Australian government rather than state  parliaments  or state governmen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5286240" y="628668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2" descr="C:\Program Files\Microsoft Office\MEDIA\CAGCAT10\j0300840.wmf"/>
          <p:cNvPicPr/>
          <p:nvPr/>
        </p:nvPicPr>
        <p:blipFill>
          <a:blip r:embed="rId2"/>
          <a:stretch/>
        </p:blipFill>
        <p:spPr>
          <a:xfrm>
            <a:off x="5357880" y="3571920"/>
            <a:ext cx="18144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vote is a choice such as putting a hand up or making a piece of paper for a counting purpos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7000920" y="642924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Picture 2" descr="C:\Program Files\Microsoft Office\Media\CntCD1\ClipArt5\j0280925.wmf"/>
          <p:cNvPicPr/>
          <p:nvPr/>
        </p:nvPicPr>
        <p:blipFill>
          <a:blip r:embed="rId2"/>
          <a:stretch/>
        </p:blipFill>
        <p:spPr>
          <a:xfrm>
            <a:off x="6357960" y="3071880"/>
            <a:ext cx="194292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coalition is the joining together of more than one parliaments parties to form a government  or a oppisi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357880" y="642924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Picture 2" descr="C:\Program Files\Microsoft Office\Media\CntCD1\ClipArt6\j0287631.wmf"/>
          <p:cNvPicPr/>
          <p:nvPr/>
        </p:nvPicPr>
        <p:blipFill>
          <a:blip r:embed="rId2"/>
          <a:stretch/>
        </p:blipFill>
        <p:spPr>
          <a:xfrm>
            <a:off x="4286160" y="2786040"/>
            <a:ext cx="34750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lways obey the laws and rules!!!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2" descr="C:\Program Files\Microsoft Office\Media\CntCD1\ClipArt1\j0078776.wmf"/>
          <p:cNvPicPr/>
          <p:nvPr/>
        </p:nvPicPr>
        <p:blipFill>
          <a:blip r:embed="rId2"/>
          <a:stretch/>
        </p:blipFill>
        <p:spPr>
          <a:xfrm>
            <a:off x="2928960" y="2214720"/>
            <a:ext cx="40003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2:27:59Z</dcterms:created>
  <dc:creator>Education</dc:creator>
  <dc:description/>
  <dc:language>en-US</dc:language>
  <cp:lastModifiedBy>Education</cp:lastModifiedBy>
  <dcterms:modified xsi:type="dcterms:W3CDTF">2009-10-20T23:44:08Z</dcterms:modified>
  <cp:revision>9</cp:revision>
  <dc:subject/>
  <dc:title>Government Glossary!!!</dc:title>
</cp:coreProperties>
</file>